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7A32F-4ECE-48C8-9265-CC81C190F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93809-D9AF-48E0-BF64-D71CC3E76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1FB12B-992F-4B5E-AFF4-247607286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465F5D-46DC-4FBB-B676-313DA082E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41915E-8115-4CAB-9F34-996A245E4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F76509-A899-4BEA-9C78-EFBB324F6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A583A5-10D1-453D-9896-206BB725E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E56DCD-F323-4C2B-AB49-0176E3A99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322B82-E71F-4F4C-8920-2E04712B5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024905-C9EE-45C5-9C88-C2DAEBC74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BABF3D-F323-4159-B4A5-2B34D14B1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6B0EE7-08D6-4618-9D1D-627B5898E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A20AC-F2A1-4E98-B940-4D7D71BE2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3F3657-848D-400D-B2AE-BB5199553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E0B967-A391-4648-8A56-0F7B49743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07C70D-B762-47EE-89F5-C779AC30F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BD9898-68E2-438D-9749-925BA9D4A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913604-4379-4A5B-9AE6-F1E9F72C3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6DFD58-6D20-49EC-9CD0-4B737826F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535473-82FB-470F-AC11-8D54A7075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7A00FF-F53E-4754-96FD-DEA915B88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715115-07F7-49C7-9AE4-3E214642C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AAB9E6-204F-426B-82E2-BEE115F2D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2A52F-7583-4D06-807F-536254FC2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3FB3BA-3FD8-4330-B934-DBF3B5D27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1DBA5F-E4FA-4703-8099-1317FC886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7DC2BE-4552-4A7B-89EE-19ECB4DA0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0A5BEF-0340-48EE-AEFA-978611341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303976-9800-4413-BAE8-9643EA7C0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D0EC63-D0C8-4785-9231-AF2EBB928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4D764A-C61A-4AAA-803A-D770BF93A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EABD34-B570-47D3-A1A1-86108A2F0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809065-0CA5-4360-BA3F-DA9FE9495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0B113C-9BFE-4882-A7DA-EDDF8A37C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30C6F-DC58-4D65-8C0E-771AD2EE4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60FB1E-E1F2-4812-91D7-C2BE068A1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DED103-4449-4F1B-B7F2-9921C2C05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1A1939-6917-4CD4-9D2A-3D7025927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5E9814-0C00-4806-96B5-4D566512A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B82653-9756-4CE5-9BFB-F01C799FC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027A53-A588-40B9-9432-DE42E375D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F0D11D-DEC7-437E-BEEF-27D54E8AE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AA8DD8-521F-4F36-8B19-03D71EF82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914E52-A64F-433F-BE5A-C6EDCD001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B1D315-2DB4-4C26-B085-A3B9B5299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80B73-F6DC-4A8F-A484-151ABBBE3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891EF0-341D-4200-8A7D-5FBB90888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D8D9ED-E427-4662-8851-BEA03B553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FD7385-E542-453F-80CD-CDEB37349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999D60-B582-46CB-85A5-752D4EEE9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B721A8-C7B0-437E-9D94-0133A5020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74CECD7-BD4A-4043-99F5-0DDF19F61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7CB0173-E1C2-4779-89A1-66B386BF5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B9BB9A0-8D87-49E0-92AE-60A5AAA24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800EBBF-A3B6-47A2-9734-008F0F23F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F63B27D-BC17-498A-9A80-CBCEFE390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14F6C-9D20-441D-A706-B6BFC1673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3145B8C-418A-49F7-95A8-5268029A9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FE882FF-A92E-4D6F-8D2B-2BEC7DD8E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9BB73A9-3761-40D7-8940-EA6A3163E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FBD1A18-6626-42B7-A3E7-D74DFE9BC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C586424-2EEB-4FE8-A3B0-C10B25762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B5F5425-7B8E-422C-B594-CBA78C682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FAD4367-097F-41A2-BD46-5CF7FD43E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FBC2976-289B-4452-AF02-A27F440B2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0423C52-2E1A-4A9E-A97C-98A363B05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2EFD1D0-066A-487A-8F93-E58A093D9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2C62C-0AF3-471E-80A0-FC4EDC098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53DF5A0-321A-4DC1-8714-F34A2C3D4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6ABEF20-6238-4E9C-90A1-721FFF888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BD5EDEA-4EDC-43C3-AF60-4FE6CDCB9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640E0D9-40ED-4C09-A7C9-2CF190944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B973DEF-E45E-40C7-AD5F-648653A65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C803A2C-70CB-4664-882F-258D9DA4F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CCCAB62-6A2F-45DD-9D59-084D5A147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D500CD8-C6F7-401B-9B57-A12ACB190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539E826-8D2D-4547-94C1-CDF1B8245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9D9689E-57DC-4CC0-9545-E1C5DD862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86C35-5BBF-45E0-80C0-1EDB4FB29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0912C91-1272-401F-A6D7-E33E71B8D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FE92C59-B957-4994-9A2E-50E2CB6DB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583D230-1EA8-448C-9BEA-72FFC7067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25D48BD-7E4D-4005-BFD4-E9812E5F8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A1D116D-B1EF-41AD-B1AE-29B230262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5955A09-BDA6-4508-B41C-9854288FD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01D08CA-0E1A-435F-8A59-92FD4B5CD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3BC8F90-84B8-4384-8A9C-F157ECE19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FD6D7B5-526B-45AE-88B3-FB97CAEC2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1E3EE6B-E188-4CCF-B6F9-4752395A9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74230-7B7F-46E1-997C-781CB0591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8E46C6F-6D56-48FC-B373-6A5058329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CBA14E2-4D3B-44E8-BD52-9F406C8B3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ED94E8E-1B45-4E47-B0BD-69DA04792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8D40910-5113-43FE-9F12-8488D3116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2FF4DDF-BE59-4500-8A6B-1A9AA7D8A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1E063E5-0A7F-4E4E-8063-103F349C6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D471782-E288-4728-BD4A-3CA1978A4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03410B3-8090-4E3F-BB7B-3C3D846D5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E173C2D-711C-404D-A293-21E702997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963B06B-5316-4465-B2C4-78621F66D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81D34-1401-4997-A4EB-81DE34221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E86211D-CBD5-4CF1-ACE2-D415C4388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66DBF5A-35A5-4C1F-83B3-CD01112BA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CAF3FD0-88B9-473B-8433-1C7DF5402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5E8D09B-EF27-4F36-89D9-39E6866DB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9B3B6B9-6724-43E9-A004-45B139BEE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371029D-C979-4CC3-8546-135A48000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83AE7A2-1CC5-43A9-A7E6-D0906AA53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24250E7-A94B-4CF1-A793-2AE96242D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036B756-9ABC-440E-85DC-32E1AC9C9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44BBF5E-DBAE-4EAC-8350-A89D89B9A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72415-3ED8-46E7-9C8D-F9681D224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4FC80-B1A5-4974-87A1-17A778C84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2377B7A-9194-4B3C-9A12-BFD9C928A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04C9508-6CB7-42E9-9B0A-F590F346B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9ACF135-B690-489D-9AF4-DBB5909D2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659500B-F018-43DC-B88A-D84393CC1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7283F92-D902-4D57-A671-988FA7CA1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33BFA24-4804-4082-BB75-E8C7C6F05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E7BCBF9-EC40-4C42-AD59-7AE439B2B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7063D4D-DC37-4753-8FA6-270BF466E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61D16FC-C2E6-413B-891B-80659A1A9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9566A2D-D6F3-43D1-BD3D-2C969FAB0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17E52-4002-43F8-B556-E6E40666A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FB29680-E47E-4A4B-A479-A42C9425D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F8535F9-9BE6-4AA2-8B0D-E2027135E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6FB328D-2E14-4D83-9640-C4F386FC4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2255209-E14B-40D8-8600-A02AE2D73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A79C930-C643-47B5-B140-E4D4A971A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F7AC6C6-C894-4D30-A70D-AE61F4DC7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DDDE00D-2D56-4F1E-ACD1-B27910858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EA3AAC6-D7A2-438B-A4EA-24F80E4FA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964DE5F-95BA-4A14-83D9-3462246EA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CDA05B0-C44B-4A50-A2AC-3B39602B7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548EE-22D9-437B-8E49-B8FFF231F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89BCB8B-6855-4EF1-970F-CA25CE961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12CBBB9-8996-499A-9CDE-6FA5A98CC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4D8403C-0124-4D13-A598-895239941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7245DA0-3637-4871-AA0F-DC475C3DE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3C619C2-EB6D-4FFE-8604-972BFD95F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F1B9D5E-E2DC-46EC-BF5B-A3BBBED80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CBBB3FC-53E5-4AB8-B13B-A0DD4BE20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1AA2C18-DC46-4825-9AD2-F6788BC36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ABDAB9C-4498-4872-A391-487E68204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4A48393-3629-4046-AB27-D47DB6196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08E6C-EF8C-4127-A047-9CE14C7DB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E0C42DC-D325-4778-9691-0092C4B64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8EBDDC1-159A-45C5-9B70-8F158BC2A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D712B06-B907-4603-A521-FBD8CD6D7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7E3431A-AAEC-436A-AC56-E964A1C29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0B9FFDB-020F-4666-8D66-BF23E22F4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A31214D-F425-41F1-994C-40BBBDD60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1ECE6AC-7428-4C20-9964-63C3B8F20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26219AB-493F-49B0-B3A4-C9D3B5858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90493F6-E39D-4FFB-9AD0-C3973E33F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70CEA5C-0514-4B1E-976B-72C6B043D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2445E-0770-4CE5-B045-FB07335B6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EA0946A-A94B-4C43-AB9D-AA539AA02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C2D7C5A-62CF-4799-94EB-C0887C416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0032398-3E42-4FFB-AF95-AE4D24DE4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452E38C-D6E9-4BA0-B77A-F6F1014E1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3087164-2711-48B2-9DFB-68708CE6A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4533F9B-FC23-4BA4-95CA-A6FCB89C5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0364AD6-C543-4D45-962F-5C794EFFC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A47B634-7873-4B53-B7A6-A8603BC35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BF5EC17-D50B-4739-8178-634EB4F8D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9190528-D34B-41D1-A592-D8456F659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C486C1-4799-4BB2-9594-802B69052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24312E9-1E13-47B4-B6AE-15047E078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FE52A9B-FFF4-44C9-8238-37E61DD32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8DD3F03-D5EB-42F8-9483-D738F6F79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E4BEDC-13D0-4D18-9F80-758789BFF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300F3E-92F9-4EC4-BC21-705AEC5D7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DA1D83-DDC0-4909-8595-18CCBEB0A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17F48C-C47C-443D-81D2-477622A2A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AE006-80B5-4A3C-AC74-603A12153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4BF8CF-AF89-43B3-88EC-E31859069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24A193-09AD-4644-9F60-CC7352980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66DA8A-1EDC-400B-A5EF-E3C2F04F0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BF5B43-E6AF-4979-AB67-662769DD7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27ECFB-77C0-4F89-B409-4BD33C4F5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DB134C-1D50-4B90-ACB8-84057D76F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57D1B7-243F-4682-BD7F-028E13203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ACAA16-D59A-455B-A3FC-61783122B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670988-5030-4063-A2B5-1526F5FCB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6E92FD-F550-4E9C-A78F-79F4006C5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CE391-A56F-4E78-A015-7516CE0D5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5985EF-F86B-47CF-BD42-62480B82B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AD7B90-04EE-49E8-BEAE-8CA20D409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76D4D5-9F2C-40D6-BEC9-D5CF39A18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D88810-E105-468C-AA48-21EC00FEF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3B8387-A42B-4A90-9924-62857EB4F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D2EDD9-2FA2-4CBE-AE0C-88425D17C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F37F42-1D08-4627-812E-097CA1D1C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377AEB-E4D1-4B20-8DFE-5C704ABD1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1DED1A-C298-43A6-BE7A-8EC26C38A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282997-B4B1-41A9-8006-96F67B1E8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6302B-6224-4FD6-98EF-E317302B3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AB63A0-685F-4E3E-B589-E927F61E3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DC285F-E9B6-4A18-B2F0-80955D01D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07E241-8ACC-4AF6-8974-0F941E668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2B2B27-CD4C-47A5-A760-D54B05670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785CF9-3268-49AE-A86A-9492FA39F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1FC5A3-ED6E-4DE9-A0DC-D477C4DB9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C35384-D9EE-4C57-AE49-986B85F5C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F985A0-40E0-4FB8-8375-17F02DBF4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769DD4-04E7-4E04-9D49-E096EF562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C421D2-4B97-48EA-95E9-F4AD2C51E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A69D0-DB33-410F-B08E-BDEEA2A13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7480D2-9996-4201-8E6B-E4051FCE9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E6857A-9C3F-4854-AC9C-384445EB9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F4DC1D-20E1-4113-911E-170F9101D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CA8539-8E73-4AE5-8036-25E4F395D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8E515E-E122-4487-9D09-2F78703CE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911BCF-953A-48BC-B18B-CAD1F396C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54FEA9-C25C-4C01-9E86-0FBA5BF7B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117818-3EFA-4B72-B8CC-BE6F287B9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C7C182-0E0A-42A0-8FB9-C44C24096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5327BE-E860-4CE6-8DDF-87BC7D4C1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0C49A-0DA8-4863-8014-888DD3A08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12A1ED-98AE-4B82-A20B-513B68D28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5D8919-5113-4576-B9B5-5F4489A34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E4F4F9-FDEF-4D03-8D2E-7256073A7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6C44DA-AD89-4F2F-87CA-1C1DDF86D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C6052F-198F-42E9-8FE5-F03D874C9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CA74A3-24C8-4276-8C49-D61260AEF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979229-7373-4213-A24C-6BE0573DE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A76747-0696-49F8-96BB-D1ABA68C3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B8F4F0-2D19-444B-AC16-2AA193F95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02A83F-20C4-4A94-8966-7463C5666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D82AB-EB13-4BB0-A603-FE06AB962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9F7476-7D86-41DC-A2CD-9E0B8E0ED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23CA13-488A-4168-AB56-805AF7AB4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AB5CFE-5124-4C42-9927-0F38F8760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E34220-67DE-47D8-B089-3EE0C98CB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A83CF3-3ACE-4A12-BF82-2CA7105A8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65A277-0A4E-4277-AB08-3DAEBF15C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CA118F-83D9-4FAE-A276-5EC26F577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ED9040-8534-4B9B-AAB3-176B506DC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896DA8-1E77-4C17-B76F-D034B0711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C74B31-0766-4D68-9C72-629D62A3A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A4083-05BE-448B-8DCA-085B5057C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B43659-0E09-4581-94E8-E033E4ABA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BC763F-EF35-4464-B924-A3F5EC888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325504-B3BE-4959-BEFB-084BFD1C8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5F20A7-C083-42BF-A851-99CD73FAA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279DDB-F2EE-479F-A947-72BB6A1C2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7627EA-3E4C-45E7-965C-4FFE0A9B9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E3BB34-EC59-40A5-96CC-F48B8F01B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4204E3-1F9B-4CD8-8BAF-F98498801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B128EC-3A9E-42FE-8E7D-95EEA9288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CBC170-3794-41F0-B3F7-40E5628C5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32B3D-90DE-4531-B9CA-0BE4B78D724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95919-311B-433F-81D3-F8BD0D98AAD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CE531-7398-47F5-8683-4D7AE0E3C42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57538-C932-4030-9DEC-FE842EC15E0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2FFDC-E89C-4866-B3A6-DE97D79DC9B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9C700-4377-4C28-A351-79C2728F50E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FEDBA-2995-4016-837E-B385D1EE63F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31829-A5C5-4EFB-9342-07D9B6464DA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E730F-2C91-4DDB-B7EC-9D3CB3F2B35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5E325-F3DC-49A4-98D1-D89214F0C73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58FDB-6835-4D86-B558-9D5487B8C3A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E8295-B9BE-44A5-AFE0-AAC5D52BB2C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539BC-AF2F-4FF5-ADEF-4B004B71123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D187D-525B-4355-B944-C3803BCDEFA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95B4A-343F-45B0-8D7A-828468125A8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B282F-ADC0-4093-864B-A7CFD3B2C4C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F9D4F-1842-45BB-98ED-1E05574AA5C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2110B-CCAC-41D6-AFFE-F91B4E475D5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3C3B1-FE92-42BC-BDFF-CF32DF79396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598B7-5427-4477-AA23-FF4E000D5AA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07D3E-2AEB-4B88-9DF6-E592170423C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51605-42A6-41D5-9EE3-C0BC3B7A21B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92A9E-16CE-47A6-BC23-A78667075A1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F37B2-D11A-46DB-9E81-E770DC779C6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D69C1-5852-474A-A29F-72DB34ABAD0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DA87C-585D-4139-B9AB-C71E459DD3B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34C58-6829-48E5-83D8-E96368C2F72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C87E5-787C-40BC-B159-5FD62CBBDFC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4478B-D59E-484F-A51A-258E59523F0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95828-4830-4159-839A-0F5B17B5EA5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CAC62-8572-4BCE-A443-24D2F485FBE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85F51-39D9-48D0-BF0B-F9D40F6E5C4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6C834-D86E-4882-B2BF-62A385C8DEB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63A1B-5B1B-4C78-ADC8-55118B16D14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85F3A-88E0-4471-A3A8-CB8C6F8B598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44A00-1D03-4C4E-A9DE-8C77110FB75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1CF97-1EFE-4482-85E7-A5C94C12DD9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25445-CBD7-47EB-99C4-6EB38FDD82C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D83C9-3970-43DC-A045-327E834B1E9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A6C3A-9E70-455A-8DC2-03F9CFA0F70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image" Target="../media/image12.png"/><Relationship Id="rId11" Type="http://schemas.openxmlformats.org/officeDocument/2006/relationships/image" Target="../media/image12.png"/><Relationship Id="rId12" Type="http://schemas.openxmlformats.org/officeDocument/2006/relationships/image" Target="../media/image12.png"/><Relationship Id="rId13" Type="http://schemas.openxmlformats.org/officeDocument/2006/relationships/image" Target="../media/image12.png"/><Relationship Id="rId14" Type="http://schemas.openxmlformats.org/officeDocument/2006/relationships/image" Target="../media/image12.png"/><Relationship Id="rId15" Type="http://schemas.openxmlformats.org/officeDocument/2006/relationships/image" Target="../media/image12.png"/><Relationship Id="rId16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image" Target="../media/image12.png"/><Relationship Id="rId11" Type="http://schemas.openxmlformats.org/officeDocument/2006/relationships/image" Target="../media/image12.png"/><Relationship Id="rId12" Type="http://schemas.openxmlformats.org/officeDocument/2006/relationships/image" Target="../media/image12.png"/><Relationship Id="rId13" Type="http://schemas.openxmlformats.org/officeDocument/2006/relationships/image" Target="../media/image12.png"/><Relationship Id="rId14" Type="http://schemas.openxmlformats.org/officeDocument/2006/relationships/image" Target="../media/image12.png"/><Relationship Id="rId15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2629080" y="3186000"/>
            <a:ext cx="3886200" cy="4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2" name="图片 60428" descr=""/>
          <p:cNvPicPr/>
          <p:nvPr/>
        </p:nvPicPr>
        <p:blipFill>
          <a:blip r:embed="rId1"/>
          <a:stretch/>
        </p:blipFill>
        <p:spPr>
          <a:xfrm>
            <a:off x="819000" y="1576440"/>
            <a:ext cx="7506000" cy="3705120"/>
          </a:xfrm>
          <a:prstGeom prst="rect">
            <a:avLst/>
          </a:prstGeom>
          <a:ln w="0">
            <a:noFill/>
          </a:ln>
        </p:spPr>
      </p:pic>
      <p:pic>
        <p:nvPicPr>
          <p:cNvPr id="923" name="图片 60429" descr=""/>
          <p:cNvPicPr/>
          <p:nvPr/>
        </p:nvPicPr>
        <p:blipFill>
          <a:blip r:embed="rId2"/>
          <a:stretch/>
        </p:blipFill>
        <p:spPr>
          <a:xfrm>
            <a:off x="1190520" y="2766960"/>
            <a:ext cx="7020000" cy="25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4" name="图片 59410" descr=""/>
          <p:cNvPicPr/>
          <p:nvPr/>
        </p:nvPicPr>
        <p:blipFill>
          <a:blip r:embed="rId1"/>
          <a:stretch/>
        </p:blipFill>
        <p:spPr>
          <a:xfrm>
            <a:off x="138240" y="1195560"/>
            <a:ext cx="8867520" cy="446688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1" descr=""/>
          <p:cNvPicPr/>
          <p:nvPr/>
        </p:nvPicPr>
        <p:blipFill>
          <a:blip r:embed="rId2"/>
          <a:stretch/>
        </p:blipFill>
        <p:spPr>
          <a:xfrm>
            <a:off x="1619280" y="1897200"/>
            <a:ext cx="936720" cy="25704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1" descr=""/>
          <p:cNvPicPr/>
          <p:nvPr/>
        </p:nvPicPr>
        <p:blipFill>
          <a:blip r:embed="rId3"/>
          <a:stretch/>
        </p:blipFill>
        <p:spPr>
          <a:xfrm>
            <a:off x="1844640" y="2305080"/>
            <a:ext cx="649440" cy="25704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1" descr=""/>
          <p:cNvPicPr/>
          <p:nvPr/>
        </p:nvPicPr>
        <p:blipFill>
          <a:blip r:embed="rId4"/>
          <a:stretch/>
        </p:blipFill>
        <p:spPr>
          <a:xfrm>
            <a:off x="4572000" y="1897200"/>
            <a:ext cx="863640" cy="257040"/>
          </a:xfrm>
          <a:prstGeom prst="rect">
            <a:avLst/>
          </a:prstGeom>
          <a:ln w="0">
            <a:noFill/>
          </a:ln>
        </p:spPr>
      </p:pic>
      <p:pic>
        <p:nvPicPr>
          <p:cNvPr id="928" name="Picture 1" descr=""/>
          <p:cNvPicPr/>
          <p:nvPr/>
        </p:nvPicPr>
        <p:blipFill>
          <a:blip r:embed="rId5"/>
          <a:stretch/>
        </p:blipFill>
        <p:spPr>
          <a:xfrm>
            <a:off x="4840200" y="2305080"/>
            <a:ext cx="649440" cy="25704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1" descr=""/>
          <p:cNvPicPr/>
          <p:nvPr/>
        </p:nvPicPr>
        <p:blipFill>
          <a:blip r:embed="rId6"/>
          <a:stretch/>
        </p:blipFill>
        <p:spPr>
          <a:xfrm>
            <a:off x="7567560" y="1916280"/>
            <a:ext cx="892080" cy="25704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1" descr=""/>
          <p:cNvPicPr/>
          <p:nvPr/>
        </p:nvPicPr>
        <p:blipFill>
          <a:blip r:embed="rId7"/>
          <a:stretch/>
        </p:blipFill>
        <p:spPr>
          <a:xfrm>
            <a:off x="7812000" y="2295360"/>
            <a:ext cx="649440" cy="257400"/>
          </a:xfrm>
          <a:prstGeom prst="rect">
            <a:avLst/>
          </a:prstGeom>
          <a:ln w="0">
            <a:noFill/>
          </a:ln>
        </p:spPr>
      </p:pic>
      <p:pic>
        <p:nvPicPr>
          <p:cNvPr id="931" name="Picture 1" descr=""/>
          <p:cNvPicPr/>
          <p:nvPr/>
        </p:nvPicPr>
        <p:blipFill>
          <a:blip r:embed="rId8"/>
          <a:stretch/>
        </p:blipFill>
        <p:spPr>
          <a:xfrm>
            <a:off x="1692360" y="2881440"/>
            <a:ext cx="649080" cy="257040"/>
          </a:xfrm>
          <a:prstGeom prst="rect">
            <a:avLst/>
          </a:prstGeom>
          <a:ln w="0">
            <a:noFill/>
          </a:ln>
        </p:spPr>
      </p:pic>
      <p:pic>
        <p:nvPicPr>
          <p:cNvPr id="932" name="Picture 1" descr=""/>
          <p:cNvPicPr/>
          <p:nvPr/>
        </p:nvPicPr>
        <p:blipFill>
          <a:blip r:embed="rId9"/>
          <a:stretch/>
        </p:blipFill>
        <p:spPr>
          <a:xfrm>
            <a:off x="3059280" y="2862360"/>
            <a:ext cx="649080" cy="257040"/>
          </a:xfrm>
          <a:prstGeom prst="rect">
            <a:avLst/>
          </a:prstGeom>
          <a:ln w="0">
            <a:noFill/>
          </a:ln>
        </p:spPr>
      </p:pic>
      <p:pic>
        <p:nvPicPr>
          <p:cNvPr id="933" name="Picture 1" descr=""/>
          <p:cNvPicPr/>
          <p:nvPr/>
        </p:nvPicPr>
        <p:blipFill>
          <a:blip r:embed="rId10"/>
          <a:stretch/>
        </p:blipFill>
        <p:spPr>
          <a:xfrm>
            <a:off x="4500720" y="2871720"/>
            <a:ext cx="649080" cy="257400"/>
          </a:xfrm>
          <a:prstGeom prst="rect">
            <a:avLst/>
          </a:prstGeom>
          <a:ln w="0">
            <a:noFill/>
          </a:ln>
        </p:spPr>
      </p:pic>
      <p:pic>
        <p:nvPicPr>
          <p:cNvPr id="934" name="Picture 1" descr=""/>
          <p:cNvPicPr/>
          <p:nvPr/>
        </p:nvPicPr>
        <p:blipFill>
          <a:blip r:embed="rId11"/>
          <a:stretch/>
        </p:blipFill>
        <p:spPr>
          <a:xfrm>
            <a:off x="1187280" y="4960800"/>
            <a:ext cx="289080" cy="257400"/>
          </a:xfrm>
          <a:prstGeom prst="rect">
            <a:avLst/>
          </a:prstGeom>
          <a:ln w="0">
            <a:noFill/>
          </a:ln>
        </p:spPr>
      </p:pic>
      <p:pic>
        <p:nvPicPr>
          <p:cNvPr id="935" name="Picture 1" descr=""/>
          <p:cNvPicPr/>
          <p:nvPr/>
        </p:nvPicPr>
        <p:blipFill>
          <a:blip r:embed="rId12"/>
          <a:stretch/>
        </p:blipFill>
        <p:spPr>
          <a:xfrm>
            <a:off x="4067280" y="4951440"/>
            <a:ext cx="288720" cy="257040"/>
          </a:xfrm>
          <a:prstGeom prst="rect">
            <a:avLst/>
          </a:prstGeom>
          <a:ln w="0">
            <a:noFill/>
          </a:ln>
        </p:spPr>
      </p:pic>
      <p:pic>
        <p:nvPicPr>
          <p:cNvPr id="936" name="Picture 1" descr=""/>
          <p:cNvPicPr/>
          <p:nvPr/>
        </p:nvPicPr>
        <p:blipFill>
          <a:blip r:embed="rId13"/>
          <a:stretch/>
        </p:blipFill>
        <p:spPr>
          <a:xfrm>
            <a:off x="5057640" y="3860640"/>
            <a:ext cx="882720" cy="1152720"/>
          </a:xfrm>
          <a:prstGeom prst="rect">
            <a:avLst/>
          </a:prstGeom>
          <a:ln w="0">
            <a:noFill/>
          </a:ln>
        </p:spPr>
      </p:pic>
      <p:pic>
        <p:nvPicPr>
          <p:cNvPr id="937" name="Picture 1" descr=""/>
          <p:cNvPicPr/>
          <p:nvPr/>
        </p:nvPicPr>
        <p:blipFill>
          <a:blip r:embed="rId14"/>
          <a:stretch/>
        </p:blipFill>
        <p:spPr>
          <a:xfrm>
            <a:off x="6948360" y="4960800"/>
            <a:ext cx="289080" cy="257400"/>
          </a:xfrm>
          <a:prstGeom prst="rect">
            <a:avLst/>
          </a:prstGeom>
          <a:ln w="0">
            <a:noFill/>
          </a:ln>
        </p:spPr>
      </p:pic>
      <p:pic>
        <p:nvPicPr>
          <p:cNvPr id="938" name="Picture 1" descr=""/>
          <p:cNvPicPr/>
          <p:nvPr/>
        </p:nvPicPr>
        <p:blipFill>
          <a:blip r:embed="rId15"/>
          <a:stretch/>
        </p:blipFill>
        <p:spPr>
          <a:xfrm>
            <a:off x="7885080" y="3870360"/>
            <a:ext cx="88272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8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3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8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3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8" dur="5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9" name="图片 58373" descr=""/>
          <p:cNvPicPr/>
          <p:nvPr/>
        </p:nvPicPr>
        <p:blipFill>
          <a:blip r:embed="rId1"/>
          <a:stretch/>
        </p:blipFill>
        <p:spPr>
          <a:xfrm>
            <a:off x="123840" y="1547640"/>
            <a:ext cx="8896320" cy="3762720"/>
          </a:xfrm>
          <a:prstGeom prst="rect">
            <a:avLst/>
          </a:prstGeom>
          <a:ln w="0">
            <a:noFill/>
          </a:ln>
        </p:spPr>
      </p:pic>
      <p:pic>
        <p:nvPicPr>
          <p:cNvPr id="940" name="Picture 1" descr=""/>
          <p:cNvPicPr/>
          <p:nvPr/>
        </p:nvPicPr>
        <p:blipFill>
          <a:blip r:embed="rId2"/>
          <a:stretch/>
        </p:blipFill>
        <p:spPr>
          <a:xfrm>
            <a:off x="620640" y="2824200"/>
            <a:ext cx="289080" cy="257040"/>
          </a:xfrm>
          <a:prstGeom prst="rect">
            <a:avLst/>
          </a:prstGeom>
          <a:ln w="0">
            <a:noFill/>
          </a:ln>
        </p:spPr>
      </p:pic>
      <p:pic>
        <p:nvPicPr>
          <p:cNvPr id="941" name="Picture 1" descr=""/>
          <p:cNvPicPr/>
          <p:nvPr/>
        </p:nvPicPr>
        <p:blipFill>
          <a:blip r:embed="rId3"/>
          <a:stretch/>
        </p:blipFill>
        <p:spPr>
          <a:xfrm>
            <a:off x="1249200" y="2824200"/>
            <a:ext cx="289080" cy="257040"/>
          </a:xfrm>
          <a:prstGeom prst="rect">
            <a:avLst/>
          </a:prstGeom>
          <a:ln w="0">
            <a:noFill/>
          </a:ln>
        </p:spPr>
      </p:pic>
      <p:pic>
        <p:nvPicPr>
          <p:cNvPr id="942" name="Picture 1" descr=""/>
          <p:cNvPicPr/>
          <p:nvPr/>
        </p:nvPicPr>
        <p:blipFill>
          <a:blip r:embed="rId4"/>
          <a:stretch/>
        </p:blipFill>
        <p:spPr>
          <a:xfrm>
            <a:off x="1863720" y="2838600"/>
            <a:ext cx="289080" cy="257040"/>
          </a:xfrm>
          <a:prstGeom prst="rect">
            <a:avLst/>
          </a:prstGeom>
          <a:ln w="0">
            <a:noFill/>
          </a:ln>
        </p:spPr>
      </p:pic>
      <p:pic>
        <p:nvPicPr>
          <p:cNvPr id="943" name="Picture 1" descr=""/>
          <p:cNvPicPr/>
          <p:nvPr/>
        </p:nvPicPr>
        <p:blipFill>
          <a:blip r:embed="rId5"/>
          <a:stretch/>
        </p:blipFill>
        <p:spPr>
          <a:xfrm>
            <a:off x="3232080" y="2833560"/>
            <a:ext cx="289080" cy="257400"/>
          </a:xfrm>
          <a:prstGeom prst="rect">
            <a:avLst/>
          </a:prstGeom>
          <a:ln w="0">
            <a:noFill/>
          </a:ln>
        </p:spPr>
      </p:pic>
      <p:pic>
        <p:nvPicPr>
          <p:cNvPr id="944" name="Picture 1" descr=""/>
          <p:cNvPicPr/>
          <p:nvPr/>
        </p:nvPicPr>
        <p:blipFill>
          <a:blip r:embed="rId6"/>
          <a:stretch/>
        </p:blipFill>
        <p:spPr>
          <a:xfrm>
            <a:off x="1249200" y="4168800"/>
            <a:ext cx="289080" cy="257040"/>
          </a:xfrm>
          <a:prstGeom prst="rect">
            <a:avLst/>
          </a:prstGeom>
          <a:ln w="0">
            <a:noFill/>
          </a:ln>
        </p:spPr>
      </p:pic>
      <p:pic>
        <p:nvPicPr>
          <p:cNvPr id="945" name="Picture 1" descr=""/>
          <p:cNvPicPr/>
          <p:nvPr/>
        </p:nvPicPr>
        <p:blipFill>
          <a:blip r:embed="rId7"/>
          <a:stretch/>
        </p:blipFill>
        <p:spPr>
          <a:xfrm>
            <a:off x="5796000" y="4149720"/>
            <a:ext cx="288720" cy="257040"/>
          </a:xfrm>
          <a:prstGeom prst="rect">
            <a:avLst/>
          </a:prstGeom>
          <a:ln w="0">
            <a:noFill/>
          </a:ln>
        </p:spPr>
      </p:pic>
      <p:pic>
        <p:nvPicPr>
          <p:cNvPr id="946" name="Picture 1" descr=""/>
          <p:cNvPicPr/>
          <p:nvPr/>
        </p:nvPicPr>
        <p:blipFill>
          <a:blip r:embed="rId8"/>
          <a:stretch/>
        </p:blipFill>
        <p:spPr>
          <a:xfrm>
            <a:off x="1258920" y="4591080"/>
            <a:ext cx="288720" cy="257040"/>
          </a:xfrm>
          <a:prstGeom prst="rect">
            <a:avLst/>
          </a:prstGeom>
          <a:ln w="0">
            <a:noFill/>
          </a:ln>
        </p:spPr>
      </p:pic>
      <p:pic>
        <p:nvPicPr>
          <p:cNvPr id="947" name="Picture 1" descr=""/>
          <p:cNvPicPr/>
          <p:nvPr/>
        </p:nvPicPr>
        <p:blipFill>
          <a:blip r:embed="rId9"/>
          <a:stretch/>
        </p:blipFill>
        <p:spPr>
          <a:xfrm>
            <a:off x="2465280" y="4581360"/>
            <a:ext cx="289080" cy="257400"/>
          </a:xfrm>
          <a:prstGeom prst="rect">
            <a:avLst/>
          </a:prstGeom>
          <a:ln w="0">
            <a:noFill/>
          </a:ln>
        </p:spPr>
      </p:pic>
      <p:pic>
        <p:nvPicPr>
          <p:cNvPr id="948" name="Picture 1" descr=""/>
          <p:cNvPicPr/>
          <p:nvPr/>
        </p:nvPicPr>
        <p:blipFill>
          <a:blip r:embed="rId10"/>
          <a:stretch/>
        </p:blipFill>
        <p:spPr>
          <a:xfrm>
            <a:off x="5354640" y="4572000"/>
            <a:ext cx="289080" cy="257040"/>
          </a:xfrm>
          <a:prstGeom prst="rect">
            <a:avLst/>
          </a:prstGeom>
          <a:ln w="0">
            <a:noFill/>
          </a:ln>
        </p:spPr>
      </p:pic>
      <p:pic>
        <p:nvPicPr>
          <p:cNvPr id="949" name="Picture 1" descr=""/>
          <p:cNvPicPr/>
          <p:nvPr/>
        </p:nvPicPr>
        <p:blipFill>
          <a:blip r:embed="rId11"/>
          <a:stretch/>
        </p:blipFill>
        <p:spPr>
          <a:xfrm>
            <a:off x="6516720" y="4581360"/>
            <a:ext cx="288720" cy="257400"/>
          </a:xfrm>
          <a:prstGeom prst="rect">
            <a:avLst/>
          </a:prstGeom>
          <a:ln w="0">
            <a:noFill/>
          </a:ln>
        </p:spPr>
      </p:pic>
      <p:pic>
        <p:nvPicPr>
          <p:cNvPr id="950" name="Picture 1" descr=""/>
          <p:cNvPicPr/>
          <p:nvPr/>
        </p:nvPicPr>
        <p:blipFill>
          <a:blip r:embed="rId12"/>
          <a:stretch/>
        </p:blipFill>
        <p:spPr>
          <a:xfrm>
            <a:off x="1258920" y="4979880"/>
            <a:ext cx="288720" cy="257400"/>
          </a:xfrm>
          <a:prstGeom prst="rect">
            <a:avLst/>
          </a:prstGeom>
          <a:ln w="0">
            <a:noFill/>
          </a:ln>
        </p:spPr>
      </p:pic>
      <p:pic>
        <p:nvPicPr>
          <p:cNvPr id="951" name="Picture 1" descr=""/>
          <p:cNvPicPr/>
          <p:nvPr/>
        </p:nvPicPr>
        <p:blipFill>
          <a:blip r:embed="rId13"/>
          <a:stretch/>
        </p:blipFill>
        <p:spPr>
          <a:xfrm>
            <a:off x="2421000" y="5003640"/>
            <a:ext cx="288720" cy="257400"/>
          </a:xfrm>
          <a:prstGeom prst="rect">
            <a:avLst/>
          </a:prstGeom>
          <a:ln w="0">
            <a:noFill/>
          </a:ln>
        </p:spPr>
      </p:pic>
      <p:pic>
        <p:nvPicPr>
          <p:cNvPr id="952" name="Picture 1" descr=""/>
          <p:cNvPicPr/>
          <p:nvPr/>
        </p:nvPicPr>
        <p:blipFill>
          <a:blip r:embed="rId14"/>
          <a:stretch/>
        </p:blipFill>
        <p:spPr>
          <a:xfrm>
            <a:off x="4140360" y="4970520"/>
            <a:ext cx="1655640" cy="25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5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0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5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0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5" dur="5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0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5" dur="5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0" dur="5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5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0" dur="5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5" dur="5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0" dur="5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5" dur="5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17T01:59:14Z</dcterms:modified>
  <cp:revision>23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